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6C1-9CD3-4BAF-B254-75473BD9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3F4-5809-4B8D-81C6-2936719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477-9D3D-4015-BE29-06BDA99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037-0765-44AA-8595-32F77509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237-C6EA-4DDF-B5D6-7B5FACD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427-E55E-4953-938B-BEADE57E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05E-6678-4E8A-98DE-F581F13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267-48CE-4419-AC37-02F8E65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B65-5D8A-45AA-9CF3-0DD1758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2FA-172D-4CA4-90F9-A073F19C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AA4-ACFC-4614-AAA6-9E8A9AD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71D-B2D9-4DDF-8C9F-120AAD6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BCD2-EE4D-4B20-A307-9DB10C8C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 EXAMPL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256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18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60880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77472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15620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29718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4:14Z</dcterms:modified>
  <cp:revision>102</cp:revision>
  <dc:subject/>
  <dc:title>The Art in the State of the Art</dc:title>
</cp:coreProperties>
</file>